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9023-F966-41DE-8596-58FE49E54915}" type="datetime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31F-6C59-4F08-9116-6E50CAB83010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st steps of FO's: acknowledge (recognize) the various dimensions of family farming, its utility (economic, social, environmental, cultural) to fight against a negative image (a "nobody",jobless), to convince members of FO's they can be proud to be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was also necessary was to analyze and understand the concept: for instance, poverty. We were not poor at the independence, we became with external misleading prescriptions and wrong national leadershi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to constantly battle against bias, bad conceptions and prescriptions: for instance, we think that competitiveness is only a part of the solution (some models overemphasized this iss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w we have some successes: we gained our autonomy and maintained it. We are part of the policy dialogue but watch out: the networking from local to continental is also important but; don't be mistaken: there are a lot of "virus" in every scheme that we have to be conscious of. We have access to some resour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bout the ECD cooperation: impossible to qualify it in one word: part of the solution and part of the problem. Some good initiatives that make our own process possible/ We are asking not only resources but more flexibility constant dialo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E791-FAA9-448D-9E46-B7A3CE10BDC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3A4-D83A-431E-93B1-C7C53FB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63B-767A-4E08-9555-7988B3B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F91-BAB1-4D4C-8FE1-101A1EC4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DD8-714E-4924-ADC8-980FEEDA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DCC-BE6A-47ED-B616-1CFDFC37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030E-9213-4531-8987-CA1B0A1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9491-E508-465F-A710-5639F7DE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7B4-954D-4810-A698-5E5CFBC0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2CC4-767B-4BBA-B529-35F0435A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25E3-0DE1-4B7F-A0AF-6BCA7A1E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282A-0FC2-43A6-8AC6-F51771E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6E7-74BC-4964-AA3F-F2CBAEF6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E114-A8FE-48F8-808D-C1A0D1FC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C31F-F081-47E3-AD7F-3B6F993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F2F5-8E84-4924-A783-37B123A5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382-1FC8-44E7-B16A-2A4FA1E5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B3B3-7C83-417F-BDF5-7B057A81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75C-2546-4FCF-91ED-6AB6DFF6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9DA-B588-409F-89F2-F4059971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81C-5038-48A5-AD26-5D07EBD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037-C4A3-4C4D-A6A8-610F86D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BFA-0449-49F2-B562-3F74DCD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ED0-AB1E-4A41-B216-35C56DF4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1FB-267E-40B9-9B86-6829AD6C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1066-9675-4367-9A5B-DE73EFCB840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79D-DAAF-4560-84B9-39A6F568C3D2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Hot Topics in Agri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russels, 12 to 14 Jul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upporting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ole of FOs and EC suppor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Wim Olthof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as service providers, advocacy and development partn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irect (EDF) or through with co-financiers (CTA, IFAD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FAD: Support to FOs in Africa (5 RFOs and 36 NF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GRICORD: Farmers Fighting Poverty (FFT) (Member States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View from the ground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Mamadou Cissok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knowledge family farming – recognise its role in agricultural development – Pillar of the econom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mily farming as a profession – not a baseline; more production for the market is not the only direction for develop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increasingly recognised at the plicy ta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need direct link / dialogue to DPs; support to FOs not via 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upporting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FOs in Ivory Coas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– Yves Gille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uge agriculture potential: based on Commodity Ch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– many and varied – linked to commod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abling environment: legal frame yes – but not enforced; G creams off the production and trade and interferes with F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Need for more professional, autonomous, integrated F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Representativeness: No FO represents ALL farmers – do not confuse with legitimacy!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Role: Country ownership is NOT government ownership: FOs have to be part of the pack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Direct support by DPs: Not a question of whether but of how! But be clear on purpose of support (advocacy, commercial) and select appropriate modes of deli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1596-6E95-44D3-A90F-7742858DAA9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7632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 new perspective on peasants/smallholders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van der Ploe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 holistic approach based on livelihoods as opposed to produc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ich self-suffiency, autonomy, pride play a big ro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...produces for the market without being dependent on the market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alance in production between ‘for the market’ and ‘for self’ provides protection against market turbulen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void one dimensional focus on commercialisation (as in “farming as a business, not a way of life!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ut instead focus on multi-functionality, low external input agriculture, pluri-activity, local cooperation, technical effici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Verdana"/>
              </a:rPr>
              <a:t>Agriculture as an awkward sector </a:t>
            </a:r>
            <a:r>
              <a:rPr b="0" i="1" lang="en-US" sz="1800" spc="-1" strike="noStrike">
                <a:solidFill>
                  <a:srgbClr val="103c72"/>
                </a:solidFill>
                <a:latin typeface="Verdana"/>
              </a:rPr>
              <a:t>by Steve Wigg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griculture crucial to poverty reduction because of increased incomes, increased employment, growth in local economy and reduced food pr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here are African agricultural successes! (Ghana, Burkina Fas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policy is key – good governance a pre-requisit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istinguish between simple and complex and between policy and implementation (programme)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ook at sequencing – depending on departure point / target group: step up – step out – hang i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mong the ultra-poor – invest education/health in the next gen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storalism: issues and challeng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Michele Nor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Boran in Northern Keny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aoud Tari Abkul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cy leve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the role of pastoralists (environmental profil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clude pastoralist organisations in the 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astoralists became thematic group in PRSP dialogue in Keny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sure that pastoralism is included in the policy and legal framework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n PRSP now has separate chapter on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conomic policy has a Arid and Semi Arid Lands chap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ainstream pastoralism in the overall sector policy frame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now has Nomadic Education Poli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the agriculture sector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has a Ministry of ASAL (for Northern Kenya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your partners (not just Min of Agric!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Understand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llect (jointly) information for evidence-based plan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donor coordination around the issue of  support to pastoralist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to pastoralism to be included in NIPs, CSP, sector assessments, SPSPs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appropriate EC instruments and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inancial modalities (e.g. specific proceedures instead of budget support) or thematic budget line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unit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Generate information – for policy, but also self-im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ttom up organisation and mobilis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representation skills (lobbying, advocacy, negoti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capacity and confidence (literac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and strengthen pastoral forums that make a link from local to national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free information flow (radio and mobile phone coverag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education and training tailored to pastoralists bith in delivery and cont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mali – teachers move with the group and the her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Agriculture growth and social transfer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56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ocial Transfers: overview EC support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- Hervé Busschaer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arly emphasis on food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availability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; now also focus on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ac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ifferent forms: Cash, Food, Asset transfers, Input transf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ference for cash transfers – not always possi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f Doc on Social Transfers and Food Secu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griculture growth &amp; social protection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Nicholas Freelan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griculture and social policies often separate:  different institutions both at country level and in DP structur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T ultimately same target group that has to graduate up the ladd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herefore: instruments to be joined up in a continuous spectru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30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ynergies within instrumen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30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ynergies between instruments are exploit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Agriculture growth and social transfer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23880"/>
            <a:ext cx="83818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ash transfers in Bangladesh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Koen Duchatea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VGDUP: 80,000 ultra-poor women; cash transfers, life skills, IGA training, asset transf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OPA: 25,000 women in WCG; cash for rural road maintenance; savings, training, linkage with other service provid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ash transfers in Ethiopi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Eshetu Mulat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ductive Safety Net Programme (PSNP); cash transfer and PW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of central Ethiopia, 7,5 M beneficiaries; 370 M € annuall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Graduation out of poverty is possible but only if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Cash transfers are part of a pack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Different programmes are link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Look at well targeted and low transactions cost instruments (E-Pa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5:24:05Z</dcterms:created>
  <dc:creator>monacro</dc:creator>
  <dc:description/>
  <dc:language>en-US</dc:language>
  <cp:lastModifiedBy>x55b078</cp:lastModifiedBy>
  <dcterms:modified xsi:type="dcterms:W3CDTF">2010-07-14T07:26:59Z</dcterms:modified>
  <cp:revision>12</cp:revision>
  <dc:subject/>
  <dc:title>Slide 1</dc:title>
</cp:coreProperties>
</file>